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951-0DEB-433B-AD56-8C3E3C4D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EB9-96D0-47CE-99F2-9F08EBEB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0C9-2BF1-4BF5-9F6B-56CD4ED8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1AB-6AE6-49AE-9962-0E07E309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72B5-DB9B-4B0E-A8C5-9A5F3919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ACAA-7DC9-4B37-880E-E6EE1A75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7CD9-C68C-435B-9577-E7F9DAE5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28A6-E047-4DDE-881C-318A56A1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AC6A-DE8C-4E13-BDC4-A3D37FF6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0F3D-847B-467D-B93E-09E1226B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A5FC-6DF5-492C-B0BD-800EC74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1ED-F44E-4826-AAAF-EBE64CC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A17E-A7D6-4309-91B1-338BE99A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5B8D-7897-4757-A36D-C81C0590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763E-E7D0-4BE6-951B-B78F2D26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656D-C591-466F-8DF1-6B8B41FB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57A4-E9AD-4E2D-9ED9-DAAB1225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981E-DCB7-478F-9BF3-3165245A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A78-F5D8-4B52-B317-A9E8D2CF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C3D-005A-45C4-87BE-67AA315B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ADA-9A73-45CD-997E-63D646B0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18B-934C-4DA4-BBC7-0E7402D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F14-9E11-478D-9C3E-8FF19180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F17-3921-4492-ACC4-038FAA83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FB00-63F1-4F5D-B7FF-AAD459A17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94A6-EB67-4D73-829E-895C6DE42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.2: The Quadratic Formul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.3: Solving by Grap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mber 4, 200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phing parabol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axis of symmetry (x= -b/2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vertex (-b/2a, plug in x value to find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wo symmetric points (symmetric points are x coordinates equally distant from the axis of sym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one of the symmetric points to find the y coordinate of both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x and y coordinates for the symmetric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smooth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y graphing the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x+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x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340520" cy="4353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35 #22-28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36 #36-5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56-757 #20-40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quadratic equations by using the quadratic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and the nature of the solutions by using the discrimin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xis of sym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 para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quadratic formu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quadratic form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dratic formula can be used to solve this type of quadratic.  It 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olves for the x int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5029200" cy="126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ing the quadratic formu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quadratic equation is in standar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values for a, b, and c.  They are numeric (no variable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e a, b, and c into the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4x+3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=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9880" y="304920"/>
            <a:ext cx="5029200" cy="1265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scrimina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criminant is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 (the portion of the quadratic formula under the radic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criminant deters the number and type of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ac &lt; 0, then there are no rea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ac = 0, then there is one real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ac &gt; 0, then there are two real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the number and types of solu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-5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x+12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l about parabol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&gt; 0, the parabolas opens up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&lt; 0, the parabola opens down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rtex is the highest or lowest point.  It’s x coordinate equals –b/2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lso the axis of symme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the x value into the equation to the find y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819920" y="685800"/>
            <a:ext cx="1324080" cy="1600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819920" y="2590920"/>
            <a:ext cx="132408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the axis of symmetry and the vertex of eac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8:52:15Z</dcterms:created>
  <dc:creator>nuhs</dc:creator>
  <dc:description/>
  <dc:language>en-US</dc:language>
  <cp:lastModifiedBy>nuhs</cp:lastModifiedBy>
  <dcterms:modified xsi:type="dcterms:W3CDTF">2007-12-04T21:41:42Z</dcterms:modified>
  <cp:revision>4</cp:revision>
  <dc:subject/>
  <dc:title>11.2: The Quadratic Formula 11.3: Solving by Graphing</dc:title>
</cp:coreProperties>
</file>